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8C54-DD74-47CA-96A5-C6D352E2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D760-DE03-455E-8838-3DBD7567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C02A-9432-41E1-A771-8BB731A0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A05-CF87-40D4-ADE4-71403C21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499D-68A1-4758-B378-A972AE58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3058-936A-4121-80A7-EFA78A57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08E-E14D-4C04-8873-17F1F26C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14F-8914-4DA3-973D-F96ED037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A44-98B3-4547-BED8-93A7BA9D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71D1-16A1-4ACC-906D-EB35971D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05E-7A1D-4CF2-A2D5-8B19020F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FB7-66B1-4E00-97D6-47859CDD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5DAA5-BA3B-44E4-B4F7-E9795721A6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486B1-913E-4CA2-96C6-8AE61CB5D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Density Formula.jpg"/>
          <p:cNvPicPr/>
          <p:nvPr/>
        </p:nvPicPr>
        <p:blipFill>
          <a:blip r:embed="rId1"/>
          <a:srcRect l="0" t="-59940" r="0" b="-59940"/>
          <a:stretch/>
        </p:blipFill>
        <p:spPr>
          <a:xfrm>
            <a:off x="3354480" y="2825640"/>
            <a:ext cx="244296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object will float in a fluid that is more dense than it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object will sink in a fluid that is less dense than it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ge 59, Applying Math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cal’s Princi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Pascal's Principle.jpg"/>
          <p:cNvPicPr/>
          <p:nvPr/>
        </p:nvPicPr>
        <p:blipFill>
          <a:blip r:embed="rId1"/>
          <a:srcRect l="-23603" t="0" r="-23603" b="0"/>
          <a:stretch/>
        </p:blipFill>
        <p:spPr>
          <a:xfrm>
            <a:off x="-728640" y="1766880"/>
            <a:ext cx="6092640" cy="3351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4495320" y="3035160"/>
            <a:ext cx="438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a force is applied to a confined flui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crease in pressure is transmitted equa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all par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1:17:01Z</dcterms:created>
  <dc:creator>Cleophis Carson</dc:creator>
  <dc:description/>
  <dc:language>en-US</dc:language>
  <cp:lastModifiedBy>Cleophis Carson</cp:lastModifiedBy>
  <dcterms:modified xsi:type="dcterms:W3CDTF">2011-09-23T16:29:59Z</dcterms:modified>
  <cp:revision>1</cp:revision>
  <dc:subject/>
  <dc:title>Density</dc:title>
</cp:coreProperties>
</file>